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23C-9EED-4EFB-9586-98E56121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DAF-E6C8-4942-8691-6D11657D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6E5-0678-4E00-82DF-94D2BB63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2F7-AE9E-4C3A-80DD-F2F92CF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64BC-4767-44CB-B3BC-52E9D8E9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2B96-D0F2-4635-8B40-058EF9E5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A116-713B-48B7-99CA-FFB9238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B66-AFA2-44C4-90AD-26B8E96A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7F2A-9AF0-4962-A9E7-AD54D43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9EE-4E5F-4989-BB91-8E5B5ED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1CB-1C07-443D-9894-C3EABDC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9BD-19A6-4F2B-AD1E-18662211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28E-B8FA-4BA3-B1C9-6735EFD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C4BF-F3F2-4500-BECE-9C54038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41B-A68B-4788-95D6-A752835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27B1-1CFB-4DC1-8427-F46D494E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D9A4-C3A7-46C2-B46D-1A556784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13D-8201-4B21-B0E8-7F1FBC7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FCC-DCAC-49F7-8A2B-8D5C6A8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42-4CA2-4EA6-B66E-6633C700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FFF-249E-4127-9079-F9E031E6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E78-F376-42D0-8536-B00D67E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ABE-21BE-4079-BE25-99807A7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391-3E1F-49A7-BC3F-FD53884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BBD-FC41-46D0-9476-1DAF9404A06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B33F-CADA-4C45-88C5-34C24CCD4B0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ark-learn.com/english/page.asp?p=categories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gif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corporating Learning Styles Theory in ISW less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04760" y="4190760"/>
            <a:ext cx="69339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W Facilitator’s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3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: Marjorie Contenti, SAIT Polytech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ne way of introducing learning style inventory in the IS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W facilitators have the participants do the follow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sm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group chooses or is assigned one of the learning styles in the V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group designs an activity that learners with that style would like and an activity they would not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activities to the large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flection on using learning styles in the IS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51424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ly, or in pairs or groups from your institution, think about how you might incorporate a learning style inventory in your I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tep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t Assessment and Summa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d you accomplish these objecti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value of introducing a learning styles inventory to ISW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one or more methods of introducing learning styles in the IS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 the VARK learning preference inven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gen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214740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-In to learning styles: value of knowing about learning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s of this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-assessment of audience knowledge of learning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group activ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ssessment and 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lue of knowing more about learning style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reflect on, and explore, our own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develop a respect for the learning preferences of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portunity to s-t-r-e-t-c-h our own styles and add more tools to our learning and our teaching tool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mmon vocabulary (which helps us understand concep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bjectives of this worksho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result of this session, participants will be abl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value of introducing a learning styles inventory to ISW particip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one or more methods of introducing learning styles in the IS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 the VARK learning preference inven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earning styles are the way we process in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259056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is the process by which we retain knowledge and skil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earning Style is the way we process information and experiences and then turn them into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, think of it as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earning styles are vari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different approaches to the way we learn.  Note: these are preferences, not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ools to measure learning sty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lb, Gregorc, VARK, Multiple Intelligences, DISC, Kiersey, Meyers-Briggs, and over 100 inventories of learning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have you used in your IS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Identify methods of introducing learning styles in the ISW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2590560"/>
            <a:ext cx="777240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the learning styles inventories that are being taught in IS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mall groups based on interest, discuss methods that have been used to introduce learning styles in IS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methods to the larg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esired, exchange contact information for follow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cc6600"/>
                </a:solidFill>
                <a:latin typeface="Times New Roman"/>
              </a:rPr>
              <a:t>A Learning style inventory: Kolb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981080"/>
          <a:ext cx="8381880" cy="4621320"/>
        </p:xfrm>
        <a:graphic>
          <a:graphicData uri="http://schemas.openxmlformats.org/drawingml/2006/table">
            <a:tbl>
              <a:tblPr/>
              <a:tblGrid>
                <a:gridCol w="4349880"/>
                <a:gridCol w="4032000"/>
              </a:tblGrid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ommod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igating the real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covery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s with little 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invol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k t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on oriented group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ying different sol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expression and crea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operative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thering information in novel 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-minded list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gining impl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e0e3"/>
                    </a:solidFill>
                  </a:tcPr>
                </a:tc>
              </a:tr>
              <a:tr h="23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uctured assignments with clear 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s-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fic and clear cut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ing physic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osing the best sol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ing experi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mi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as,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derly and lo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c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ing conceptual mod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lyzing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CA" sz="4400" spc="-1" strike="noStrike">
                <a:solidFill>
                  <a:srgbClr val="cc6600"/>
                </a:solidFill>
                <a:latin typeface="Times New Roman"/>
              </a:rPr>
              <a:t>Learning style: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RK modalities </a:t>
            </a:r>
            <a:r>
              <a:rPr b="0" i="1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1"/>
              </a:rPr>
              <a:t>http://www.vark-learn.com/english/page.asp?p=categories</a:t>
            </a:r>
            <a:r>
              <a:rPr b="0" i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2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ral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5" descr="C:\Documents and Settings\mcontent\Local Settings\Temporary Internet Files\Content.IE5\1P77QWUL\MCj04377970000[1].wmf"/>
          <p:cNvPicPr/>
          <p:nvPr/>
        </p:nvPicPr>
        <p:blipFill>
          <a:blip r:embed="rId11"/>
          <a:stretch/>
        </p:blipFill>
        <p:spPr>
          <a:xfrm>
            <a:off x="2057400" y="2438280"/>
            <a:ext cx="1752480" cy="157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Documents and Settings\mcontent\Local Settings\Temporary Internet Files\Content.IE5\1P77QWUL\MCj01871590000[1].wmf"/>
          <p:cNvPicPr/>
          <p:nvPr/>
        </p:nvPicPr>
        <p:blipFill>
          <a:blip r:embed="rId12"/>
          <a:stretch/>
        </p:blipFill>
        <p:spPr>
          <a:xfrm>
            <a:off x="2057400" y="4724280"/>
            <a:ext cx="1843200" cy="1511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Documents and Settings\mcontent\Local Settings\Temporary Internet Files\Content.IE5\3TFSDJBC\MMAG00218_0000[1].gif"/>
          <p:cNvPicPr/>
          <p:nvPr/>
        </p:nvPicPr>
        <p:blipFill>
          <a:blip r:embed="rId13"/>
          <a:stretch/>
        </p:blipFill>
        <p:spPr>
          <a:xfrm>
            <a:off x="6172200" y="2590920"/>
            <a:ext cx="1981080" cy="135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C:\Documents and Settings\mcontent\Local Settings\Temporary Internet Files\Content.IE5\3TFSDJBC\MCj04399430000[1].wmf"/>
          <p:cNvPicPr/>
          <p:nvPr/>
        </p:nvPicPr>
        <p:blipFill>
          <a:blip r:embed="rId14"/>
          <a:stretch/>
        </p:blipFill>
        <p:spPr>
          <a:xfrm>
            <a:off x="6629400" y="4572000"/>
            <a:ext cx="13906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51:37Z</dcterms:created>
  <dc:creator>SAIT</dc:creator>
  <dc:description/>
  <dc:language>en-US</dc:language>
  <cp:lastModifiedBy>mcontent</cp:lastModifiedBy>
  <dcterms:modified xsi:type="dcterms:W3CDTF">2009-06-12T16:04:38Z</dcterms:modified>
  <cp:revision>24</cp:revision>
  <dc:subject/>
  <dc:title>Diverse Learning Approaches</dc:title>
</cp:coreProperties>
</file>